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757CE-91CF-4EEA-B6BB-0C7D0416A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F0B9-0CD6-4428-A4D7-EA37724F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536EC-3BF5-41C8-ACCF-CBD2F2D53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9BABF-F95D-40B8-97EB-8EF87E433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DC13-CFB0-4D8F-AA69-1A56E9D4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BEC20-932A-44F6-9560-AC22299F9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D70F-B5A8-463C-B591-3407222D7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12554-BF95-4738-B0CB-CA07DF75C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4452-B88B-4271-A696-58E2C205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6922-078F-417D-96FB-531CCC80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1546-F5C4-404C-8245-98FECDDF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CBA2-8F43-4344-B50D-DA92A6320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99CB-9B43-44AA-838F-43AB3E246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60912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adi MT Condensed Extra Bold"/>
              </a:rPr>
              <a:t>Quote sandwiches</a:t>
            </a:r>
            <a:endParaRPr b="0" lang="en-US" sz="4400" spc="-1" strike="noStrike">
              <a:solidFill>
                <a:srgbClr val="000000"/>
              </a:solidFill>
              <a:latin typeface="Arial"/>
            </a:endParaRPr>
          </a:p>
        </p:txBody>
      </p:sp>
      <p:sp>
        <p:nvSpPr>
          <p:cNvPr id="42" name="PlaceHolder 2"/>
          <p:cNvSpPr>
            <a:spLocks noGrp="1"/>
          </p:cNvSpPr>
          <p:nvPr>
            <p:ph/>
          </p:nvPr>
        </p:nvSpPr>
        <p:spPr>
          <a:xfrm>
            <a:off x="1066320" y="2743200"/>
            <a:ext cx="70866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ence setting up first supporting ide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example or quote</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up from quote (what does the quote show?)</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4114800" cy="2716200"/>
          </a:xfrm>
          <a:prstGeom prst="rect">
            <a:avLst/>
          </a:prstGeom>
          <a:ln w="0">
            <a:noFill/>
          </a:ln>
        </p:spPr>
      </p:pic>
      <p:sp>
        <p:nvSpPr>
          <p:cNvPr id="44" name=""/>
          <p:cNvSpPr/>
          <p:nvPr/>
        </p:nvSpPr>
        <p:spPr>
          <a:xfrm>
            <a:off x="6477120" y="5715000"/>
            <a:ext cx="2057400" cy="685800"/>
          </a:xfrm>
          <a:prstGeom prst="wedgeEllipseCallout">
            <a:avLst>
              <a:gd name="adj1" fmla="val -168365"/>
              <a:gd name="adj2" fmla="val -9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Bottom bread</a:t>
            </a:r>
            <a:endParaRPr b="0" lang="en-US" sz="2400" spc="-1" strike="noStrike">
              <a:solidFill>
                <a:srgbClr val="000000"/>
              </a:solidFill>
              <a:latin typeface="Arial"/>
            </a:endParaRPr>
          </a:p>
        </p:txBody>
      </p:sp>
      <p:sp>
        <p:nvSpPr>
          <p:cNvPr id="45" name=""/>
          <p:cNvSpPr/>
          <p:nvPr/>
        </p:nvSpPr>
        <p:spPr>
          <a:xfrm>
            <a:off x="6629400" y="1981080"/>
            <a:ext cx="1676520" cy="7621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Top bread</a:t>
            </a:r>
            <a:endParaRPr b="0" lang="en-US" sz="2400" spc="-1" strike="noStrike">
              <a:solidFill>
                <a:srgbClr val="000000"/>
              </a:solidFill>
              <a:latin typeface="Arial"/>
            </a:endParaRPr>
          </a:p>
        </p:txBody>
      </p:sp>
      <p:sp>
        <p:nvSpPr>
          <p:cNvPr id="46" name=""/>
          <p:cNvSpPr/>
          <p:nvPr/>
        </p:nvSpPr>
        <p:spPr>
          <a:xfrm>
            <a:off x="7238880" y="3429000"/>
            <a:ext cx="1676520" cy="762120"/>
          </a:xfrm>
          <a:prstGeom prst="wedgeEllipseCallout">
            <a:avLst>
              <a:gd name="adj1" fmla="val -180870"/>
              <a:gd name="adj2"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Fi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64008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Sequence of sentences in a body paragraph.</a:t>
            </a:r>
            <a:endParaRPr b="0" lang="en-US" sz="28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ic sentence (focus of the paragraph overall)</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setting up first supporting idea</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example or quote</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p from quote (what does the quote show?)</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transitioning to second supporting idea and setting up that idea. </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example or quote</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p from quote (what does the quote show?)</a:t>
            </a:r>
            <a:endParaRPr b="0" lang="en-US" sz="24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that comments on the importance of this subpoint to the story overal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Suggested length = 8+ Sentences total</a:t>
            </a:r>
            <a:endParaRPr b="0" lang="en-US" sz="2800" spc="-1" strike="noStrike">
              <a:solidFill>
                <a:srgbClr val="000000"/>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248520" y="1295280"/>
            <a:ext cx="1828800" cy="762120"/>
          </a:xfrm>
          <a:prstGeom prst="wedgeEllipseCallout">
            <a:avLst>
              <a:gd name="adj1" fmla="val -132986"/>
              <a:gd name="adj2" fmla="val 5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Quote Sandwich #1</a:t>
            </a:r>
            <a:endParaRPr b="0" lang="en-US" sz="1800" spc="-1" strike="noStrike">
              <a:solidFill>
                <a:srgbClr val="000000"/>
              </a:solidFill>
              <a:latin typeface="Arial"/>
            </a:endParaRPr>
          </a:p>
        </p:txBody>
      </p:sp>
      <p:sp>
        <p:nvSpPr>
          <p:cNvPr id="49" name=""/>
          <p:cNvSpPr/>
          <p:nvPr/>
        </p:nvSpPr>
        <p:spPr>
          <a:xfrm>
            <a:off x="6095880" y="3124080"/>
            <a:ext cx="1828800" cy="762120"/>
          </a:xfrm>
          <a:prstGeom prst="wedgeEllipseCallout">
            <a:avLst>
              <a:gd name="adj1" fmla="val -135763"/>
              <a:gd name="adj2" fmla="val 3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Quote Sandwich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52280"/>
            <a:ext cx="8458200" cy="691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000000"/>
                </a:solidFill>
                <a:latin typeface="Arno Pro"/>
              </a:rPr>
              <a:t>In the first act of Shakespeare’s </a:t>
            </a:r>
            <a:r>
              <a:rPr b="0" sz="1800" spc="-1" strike="noStrike" u="sng">
                <a:solidFill>
                  <a:srgbClr val="000000"/>
                </a:solidFill>
                <a:uFillTx/>
                <a:latin typeface="Arno Pro"/>
              </a:rPr>
              <a:t>Macbeth</a:t>
            </a:r>
            <a:r>
              <a:rPr b="0" sz="1800" spc="-1" strike="noStrike">
                <a:solidFill>
                  <a:srgbClr val="000000"/>
                </a:solidFill>
                <a:latin typeface="Arno Pro"/>
              </a:rPr>
              <a:t>, Macbeth is seen as a character who is easily persuaded to make a choice he knows as wr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Topic sentence establishes name of text and author, responds directly to the prompt and sets up a focus for the rest of the ideas.  It shouldn’t just state pl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badi MT Condensed Extra Bold"/>
              </a:rPr>
              <a:t>WHAT NOT TO 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Compare to a topic sentence that just states pl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000000"/>
                </a:solidFill>
                <a:latin typeface="Arno Pro"/>
              </a:rPr>
              <a:t>In the first act of Shakespeare’s </a:t>
            </a:r>
            <a:r>
              <a:rPr b="0" sz="1800" spc="-1" strike="noStrike" u="sng">
                <a:solidFill>
                  <a:srgbClr val="000000"/>
                </a:solidFill>
                <a:uFillTx/>
                <a:latin typeface="Arno Pro"/>
              </a:rPr>
              <a:t>Macbeth</a:t>
            </a:r>
            <a:r>
              <a:rPr b="0" sz="1800" spc="-1" strike="noStrike">
                <a:solidFill>
                  <a:srgbClr val="000000"/>
                </a:solidFill>
                <a:latin typeface="Arno Pro"/>
              </a:rPr>
              <a:t>, Macbeth is considering what to do when the witches tell him he might one day become k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152280"/>
            <a:ext cx="8763120" cy="865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808080"/>
                </a:solidFill>
                <a:latin typeface="Arno Pro"/>
              </a:rPr>
              <a:t>In the first act of Shakespeare’s </a:t>
            </a:r>
            <a:r>
              <a:rPr b="0" sz="1800" spc="-1" strike="noStrike" u="sng">
                <a:solidFill>
                  <a:srgbClr val="808080"/>
                </a:solidFill>
                <a:uFillTx/>
                <a:latin typeface="Arno Pro"/>
              </a:rPr>
              <a:t>Macbeth</a:t>
            </a:r>
            <a:r>
              <a:rPr b="0" sz="1800" spc="-1" strike="noStrike">
                <a:solidFill>
                  <a:srgbClr val="808080"/>
                </a:solidFill>
                <a:latin typeface="Arno Pro"/>
              </a:rPr>
              <a:t>, Macbeth is seen as a character who is easily persuaded to make a choice he knows as wrong.</a:t>
            </a:r>
            <a:r>
              <a:rPr b="0" sz="1800" spc="-1" strike="noStrike">
                <a:solidFill>
                  <a:srgbClr val="000000"/>
                </a:solidFill>
                <a:latin typeface="Arno Pro"/>
              </a:rPr>
              <a:t>  At first he is called “brave” Macbeth and it is clear that King Duncan is willing to reward him for his efforts during the rebellion.  But as soon as the witches greet him as he “that shalt be King hereafter” (I.iii.50),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Quote Sandwich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Set up the context of any quote before you give the quote so that you orient the reader to the events and prepare them for why this quote will be impor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Carefully use correct parenthetical citation format: end the quote, end quote mark, parenthetical citation, end parenthetical citation, peri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Use pieces of quotes incorporated into your own original sentences as well as pull-out quotes to make the ideas more your own.  This provides a chance to get support from the text without having to take long pauses from your own i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152280"/>
            <a:ext cx="8763120" cy="72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808080"/>
                </a:solidFill>
                <a:latin typeface="Arno Pro"/>
              </a:rPr>
              <a:t>     </a:t>
            </a:r>
            <a:r>
              <a:rPr b="0" sz="1800" spc="-1" strike="noStrike">
                <a:solidFill>
                  <a:srgbClr val="808080"/>
                </a:solidFill>
                <a:latin typeface="Arno Pro"/>
              </a:rPr>
              <a:t>In the first act of Shakespeare’s </a:t>
            </a:r>
            <a:r>
              <a:rPr b="0" sz="1800" spc="-1" strike="noStrike" u="sng">
                <a:solidFill>
                  <a:srgbClr val="808080"/>
                </a:solidFill>
                <a:uFillTx/>
                <a:latin typeface="Arno Pro"/>
              </a:rPr>
              <a:t>Macbeth</a:t>
            </a:r>
            <a:r>
              <a:rPr b="0" sz="1800" spc="-1" strike="noStrike">
                <a:solidFill>
                  <a:srgbClr val="808080"/>
                </a:solidFill>
                <a:latin typeface="Arno Pro"/>
              </a:rPr>
              <a:t>, Macbeth is seen as a character who is easily persuaded to make a choice he knows as wrong.  At first he is called “brave” Macbeth and it is clear that King Duncan is willing to reward him for his efforts during the rebellion.  But as soon as the witches greet him as a future king,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a:t>
            </a:r>
            <a:r>
              <a:rPr b="0" sz="1800" spc="-1" strike="noStrike">
                <a:solidFill>
                  <a:srgbClr val="000000"/>
                </a:solidFill>
                <a:latin typeface="Arno Pro"/>
              </a:rPr>
              <a:t>  He changes his mind by the time he meets up with his wife, but she shames him so thoroughly that he eventually caves to her:  “I am settled, and bend up / Each corporal agent to this terrible feat” (I.vii.79-80). If he thought it was okay to murder Duncan that would be one thing, but Macbeth has gotten talked into doing something he knows is wro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Quote Sandwich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152280"/>
            <a:ext cx="8763120" cy="883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808080"/>
                </a:solidFill>
                <a:latin typeface="Arno Pro"/>
              </a:rPr>
              <a:t>     </a:t>
            </a:r>
            <a:r>
              <a:rPr b="0" sz="1800" spc="-1" strike="noStrike">
                <a:solidFill>
                  <a:srgbClr val="808080"/>
                </a:solidFill>
                <a:latin typeface="Arno Pro"/>
              </a:rPr>
              <a:t>In the first act of Shakespeare’s </a:t>
            </a:r>
            <a:r>
              <a:rPr b="0" sz="1800" spc="-1" strike="noStrike" u="sng">
                <a:solidFill>
                  <a:srgbClr val="808080"/>
                </a:solidFill>
                <a:uFillTx/>
                <a:latin typeface="Arno Pro"/>
              </a:rPr>
              <a:t>Macbeth</a:t>
            </a:r>
            <a:r>
              <a:rPr b="0" sz="1800" spc="-1" strike="noStrike">
                <a:solidFill>
                  <a:srgbClr val="808080"/>
                </a:solidFill>
                <a:latin typeface="Arno Pro"/>
              </a:rPr>
              <a:t>, Macbeth is seen as a character who is easily persuaded to make a choice he knows as wrong.  At first he is called “brave” Macbeth and it is clear that King Duncan is willing to reward him for his efforts during the rebellion.  But as soon as the witches greet him as a future king,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  He changes his mind by the time he meets up with his wife, but she shames him so thoroughly that he eventually caves to her:  “I am settled, and bend up / Each corporal agent to this terrible feat” (I.vii.79-80).  If he thought it was okay to murder Duncan that would be one thing, but Macbeth has gotten talked into doing something he knows is wrong.</a:t>
            </a:r>
            <a:r>
              <a:rPr b="0" sz="1800" spc="-1" strike="noStrike">
                <a:solidFill>
                  <a:srgbClr val="000000"/>
                </a:solidFill>
                <a:latin typeface="Arno Pro"/>
              </a:rPr>
              <a:t>  Because he is so easily persuaded into murder, he may have to deal with a guilty conscience later, and he may be easily convinced to do other bad things too.</a:t>
            </a:r>
            <a:r>
              <a:rPr b="0" i="1"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Note the final sentence shows the importance of the point I’ve made about Macbeth in the paragraph: why this idea is significance to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304920"/>
            <a:ext cx="8458200" cy="80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000000"/>
                </a:solidFill>
                <a:latin typeface="Arno Pro"/>
              </a:rPr>
              <a:t>In the first act of Shakespeare’s </a:t>
            </a:r>
            <a:r>
              <a:rPr b="0" sz="1800" spc="-1" strike="noStrike" u="sng">
                <a:solidFill>
                  <a:srgbClr val="000000"/>
                </a:solidFill>
                <a:uFillTx/>
                <a:latin typeface="Arno Pro"/>
              </a:rPr>
              <a:t>Macbeth</a:t>
            </a:r>
            <a:r>
              <a:rPr b="0" sz="1800" spc="-1" strike="noStrike">
                <a:solidFill>
                  <a:srgbClr val="000000"/>
                </a:solidFill>
                <a:latin typeface="Arno Pro"/>
              </a:rPr>
              <a:t>, Macbeth is seen as a character who is easily persuaded to make a choice he knows as wrong.  At first he is called “brave” Macbeth and it is clear that King Duncan is willing to reward him for his efforts during the rebellion.  But as soon as the witches greet him as a future king,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  He changes his mind by the time he meets up with his wife, but she shames him so thoroughly that he eventually caves to her:  “I am settled, and bend up / Each corporal agent to this terrible feat” (I.vii.79-80).  If he thought it was okay to murder Duncan that would be one thing, but Macbeth has gotten talked into doing something he knows is wrong.  Because he is so easily persuaded into murder, he may have to deal with a guilty conscience later, and he may be easily convinced to do other bad things t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Lady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152280"/>
            <a:ext cx="87631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Long quotes (3-5 lines within the paragraph text) should be separated from the text with blank lines on top and bottom and five-space indents to left and right margins and single-spaced.  Quotations are not needed unless you are quoting dialogue (as in this case) - the format indicates it is a quote on its 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colon to introduce a quote in this form, the lack of indent in the line that comes after, and the follow up on the significance of the quote at the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152280"/>
            <a:ext cx="876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reat the title the same way here as in the essay.  Make sure the way you reference the source in the parenthetical citation agrees with the first word(s) of the Works Cited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3:21:09Z</dcterms:created>
  <dc:creator>admin CHRHS</dc:creator>
  <dc:description/>
  <dc:language>en-US</dc:language>
  <cp:lastModifiedBy>admin CHRHS</cp:lastModifiedBy>
  <dcterms:modified xsi:type="dcterms:W3CDTF">2010-05-21T13:31:26Z</dcterms:modified>
  <cp:revision>16</cp:revision>
  <dc:subject/>
  <dc:title>PowerPoint Presentation</dc:title>
</cp:coreProperties>
</file>